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103-1AE9-4D53-BF7C-9C4ED37D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6AC-1772-41E0-8C5F-0DEB25D6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4A0-A960-45F4-9F0E-3C55C51A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CA6-3E45-48AB-AADD-319E2DE8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8B4-80D1-4DC2-9061-93B0E76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25C-AA6A-4919-9933-04131E28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BCC-D4E4-4935-9CEE-A56345D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73C-6427-4855-A7CC-5F7BC6B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074-532C-48D9-84B5-C47A417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401-5E03-4D75-B0A4-829161A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489-9008-4280-811D-06A4FEC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76F-7938-40B1-938A-5F288DC4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7DB3-81FA-47FF-85E0-8B8EA4CA9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Reggies Five Star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ce-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38440" y="4452480"/>
            <a:ext cx="702288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so great about my ice-cream is that it is made in a restaurant. It is made with 100%thick cream. Eat up um um delicious. It is very creamy icy, hard , and soft. We just don’t sel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88240" y="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25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